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WHOOSH.WAV" ContentType="audio/x-wav"/>
  <Override PartName="/ppt/media/TYP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307-7BAD-4E09-91D8-57C88108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A10-3CC1-47D3-85E5-7D3F80BF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5E7-24D9-41D1-A865-B83D6797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1D5-D629-4F7B-A6C7-837F5D43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C20-45A9-4F42-AEF9-AD0534E1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4821-0ABB-40D6-9D9E-24545010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7252-2E63-46FC-9F5D-5977EA2A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6FC4-2B54-46B8-A61B-3330F9FA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6932-0211-4126-AFFB-1458FA75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FBAB-CA32-41A6-BCA7-F591D15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601-F405-4D5B-861E-A61ED98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986-DE18-45CC-A148-A3EF724F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9D3D-63EF-4583-8D5E-97804F9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75FA-C1DA-4F78-8729-575ACF4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084-AF20-41B2-9192-5C0E7B6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5238-FF34-4B3B-8DFD-4C558751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4499-36D5-4D62-AFFE-C3CD05D5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803-0100-428F-B8FF-D082A69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620-8901-4C41-9CDC-BE0B058B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226-8FDC-4E58-9C34-BFF21A9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B48-6169-48C1-9CEC-9C94A1B1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B1C-FD6F-4F56-9456-3F047DA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CD3-1EB2-4BBF-ACF9-C6BA8C5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9E6-5D26-4AD1-9BEF-DC83EF1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8208-0404-46A0-A4A1-755804C3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B2D7-E1F8-4390-ABA7-E0705106A88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uplace.com/cgi-bin/schtemplate.cgi?template=/math/hmm/models/tm_popup.thtml&amp;grade=3&amp;chapter=15&amp;lesson=6&amp;title=Solid+Figures&amp;tm=tmfd1506e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1600200" y="1066680"/>
            <a:ext cx="5943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id Fig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ynthia Stanfiel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S Mincho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Arial Rounded MT Bold"/>
              </a:rPr>
              <a:t>What are Solid Figures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lick here to discover the answer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olid figure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286000" y="2057400"/>
            <a:ext cx="618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800160" y="62038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ach Extended"/>
              </a:rPr>
              <a:t>Interactive Les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here to view the interactive less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MCBD05091_0000[1]"/>
          <p:cNvPicPr/>
          <p:nvPr/>
        </p:nvPicPr>
        <p:blipFill>
          <a:blip r:embed="rId1"/>
          <a:stretch/>
        </p:blipFill>
        <p:spPr>
          <a:xfrm>
            <a:off x="4917960" y="3236760"/>
            <a:ext cx="3780000" cy="344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3886200" y="4343400"/>
            <a:ext cx="304920" cy="1066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572000" y="4343400"/>
            <a:ext cx="304920" cy="1066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15000" y="990720"/>
            <a:ext cx="38088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480060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781680" y="19051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495288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5181480" y="4267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7391520" y="4114800"/>
            <a:ext cx="3808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495680" y="541008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3733920" y="5410080"/>
            <a:ext cx="5331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10552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400800" y="5257800"/>
            <a:ext cx="3808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752480" y="228600"/>
            <a:ext cx="6096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solid figures in the rob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5"/>
          <p:cNvSpPr/>
          <p:nvPr/>
        </p:nvSpPr>
        <p:spPr>
          <a:xfrm flipH="1">
            <a:off x="228564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1676520" y="4572000"/>
            <a:ext cx="3808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3886200" y="838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8"/>
          <p:cNvSpPr/>
          <p:nvPr/>
        </p:nvSpPr>
        <p:spPr>
          <a:xfrm rot="14015400">
            <a:off x="2779560" y="2859120"/>
            <a:ext cx="611280" cy="129384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3276720" y="2590920"/>
            <a:ext cx="2205000" cy="1828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20"/>
          <p:cNvSpPr/>
          <p:nvPr/>
        </p:nvSpPr>
        <p:spPr>
          <a:xfrm rot="19333800">
            <a:off x="5409720" y="2895120"/>
            <a:ext cx="533520" cy="137160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4191120" y="2057400"/>
            <a:ext cx="457200" cy="7621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3962520" y="1752480"/>
            <a:ext cx="9144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04920" y="6095880"/>
            <a:ext cx="22860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762120" y="6095880"/>
            <a:ext cx="9144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1905120" y="6095880"/>
            <a:ext cx="22860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2362320" y="6095880"/>
            <a:ext cx="11430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3809880" y="6095880"/>
            <a:ext cx="30492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4419720" y="6095880"/>
            <a:ext cx="9903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638680" y="6095880"/>
            <a:ext cx="30492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6095880" y="6095880"/>
            <a:ext cx="9144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7162920" y="6095880"/>
            <a:ext cx="30456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7620120" y="6095880"/>
            <a:ext cx="1523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tangular Pris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35"/>
          <p:cNvSpPr/>
          <p:nvPr/>
        </p:nvSpPr>
        <p:spPr>
          <a:xfrm>
            <a:off x="76320" y="2666880"/>
            <a:ext cx="2057400" cy="1067040"/>
          </a:xfrm>
          <a:prstGeom prst="wedgeRectCallout">
            <a:avLst>
              <a:gd name="adj1" fmla="val -35800"/>
              <a:gd name="adj2" fmla="val 6502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304920" y="28195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holBleeker-Regular"/>
              </a:rPr>
              <a:t>Click the mouse for the answ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37"/>
          <p:cNvSpPr/>
          <p:nvPr/>
        </p:nvSpPr>
        <p:spPr>
          <a:xfrm>
            <a:off x="0" y="3886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Activity from NGF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d Figures G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9" descr="Image5"/>
          <p:cNvPicPr/>
          <p:nvPr/>
        </p:nvPicPr>
        <p:blipFill>
          <a:blip r:embed="rId1"/>
          <a:stretch/>
        </p:blipFill>
        <p:spPr>
          <a:xfrm>
            <a:off x="4952880" y="4495680"/>
            <a:ext cx="373392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con Learning Center – Solid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 Place at www.eduplac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elwood School District – C. Dav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2:42:59Z</dcterms:created>
  <dc:creator>ckeclass</dc:creator>
  <dc:description/>
  <dc:language>en-US</dc:language>
  <cp:lastModifiedBy>kim.nelson Nelson</cp:lastModifiedBy>
  <dcterms:modified xsi:type="dcterms:W3CDTF">2012-01-12T03:59:30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